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EB8-A25F-4D33-BC7E-A56074A1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3DE-1618-4137-8B83-71ABD69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557-47F8-4908-8AAE-CB55B742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408-7155-4554-B5CE-75044E0A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1E0B-0F5B-4E86-85FC-4628C9FD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5BA-902A-48AA-A1EC-08AE2031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FF55-566A-4443-BF96-0CEE29E6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45F3-6671-47E8-A875-018DE3C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F4AE-2C31-4536-874A-6FAD6AE6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EAA4-FC23-4815-AAE8-82D2A5E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88E5-814A-4BA2-AEC8-959A1DA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07E-838C-4A8F-92A4-1A482889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6D1B-B875-4CCF-87AC-77C4D06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56D7-3B97-45FC-BFA5-A6E3A024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EAFB-95C2-42FB-A4AE-B49F1FD0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BD6-04BE-4DBD-82B4-64FCF4C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5C7A-CF1A-43AC-9393-5606105A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950E-D7F1-4E82-9F11-AAB31046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6739-7B91-452E-BC5D-15F1011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6E1B-DD7C-46A1-B1F1-E0852B45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9791-7D0E-4D4C-B318-37503AC7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6C2F-C88D-4F92-ABF2-CB2D0B82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A2B-86F4-4393-90D8-F2B474C3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C7B0-8C5A-4388-BEDB-69B7304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AD57-7398-4FF3-B5F5-C4B0550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DDE5-D2B2-41BA-85B9-64B2726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7028-E0F6-43B2-8A74-57058CE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FB43-3D2E-459D-9E55-C6B23FD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0752-21D8-4477-89BB-EC1A9D68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3F8F-7992-41A2-9D2C-ECE98F06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6B27-3477-4E34-BC54-CC7FC20C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B9B1-3BDC-42DE-B188-A088182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A322-7FFE-46A3-B528-70ED6AE4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333-8ED2-4942-B414-6234DEF8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A8DA-47CA-4087-9160-12041CD1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9C5C-865C-4426-8A20-325B1205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4075F-82A0-4B91-B24A-B555C16E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DD8D-F16E-47E1-BB75-30515566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1EDF-D2E3-4691-BCFB-CCD1A289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B4E5-BCEF-44DC-B594-89B289EB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972F-F1A0-4641-BE8C-4455A71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E7E1-E0DC-4797-9597-2C8198FA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4524-0C06-46BF-80C4-FA02940C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B8A-104B-4E4A-9D34-8C2D163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1BF-763C-4640-A802-97FDE82C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FD2-C9E3-45F9-A6B7-D835D94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42A-CC84-4D01-BF19-18D0561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ED8-8557-418C-A1AF-B17ADBC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4ED3-DD15-4830-B040-8644C49FF7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E399-CB8E-4627-8AB0-B2B2EF3B267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2E5B-9875-4FFC-B2B5-AC310286B5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907B-5787-45B9-8F01-07F7942E1D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Spreadshee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Pivot table for the data so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and automotive sales will be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Max of Aug-08 for each Type and automotive s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6A07-3C54-4BB4-9A73-AEF0CAC6FB9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4A88-AAF5-4742-B181-EFEB11AB4B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5800" y="609480"/>
          <a:ext cx="6705720" cy="5567400"/>
        </p:xfrm>
        <a:graphic>
          <a:graphicData uri="http://schemas.openxmlformats.org/drawingml/2006/table">
            <a:tbl>
              <a:tblPr/>
              <a:tblGrid>
                <a:gridCol w="2276640"/>
                <a:gridCol w="3274920"/>
                <a:gridCol w="115416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of Aug-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otive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/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-duty Truc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which variables are required to be in rows and which are required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check the function required; e.g. max and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 ask yourself if the answer is corre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F2E-D440-4E6B-B242-35C1D4CAC8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market share percentages for the top twenty vehicle sales in August 2008? Use a chart to display this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693-78DF-4F39-9BE2-2FFD6494645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Quiz 1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at least 5 minutes ea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your photo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write your name and sign the handout she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turn back the handout at the end of the ex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ternet Browsing, chatting, or Cell Ph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will be through blackboa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62AA-1126-4999-988B-85C9FDE597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 excel sheet from my webp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hybrid vehicle sales from January 2004 to May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boarder color to red and its width to 1.25 p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legend and gridlines from the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major vertical gridlines to the ch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vertical and horizontal axis to 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3CC9-1405-405D-BA13-BAFBDFF1C2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BE80-8886-4DC4-9243-1CE577E493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4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itional column “ rank” that comes from a lookup table to achieve the foll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30000, rank =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20000, rank = 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10000, rank = 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50000, rank = 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rank=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8F95-EE48-4F21-9FFF-ACFB69B8D0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F5C6-CAFC-4D15-B19B-4544782D4A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1960" y="1397160"/>
          <a:ext cx="1540080" cy="4897440"/>
        </p:xfrm>
        <a:graphic>
          <a:graphicData uri="http://schemas.openxmlformats.org/drawingml/2006/table">
            <a:tbl>
              <a:tblPr/>
              <a:tblGrid>
                <a:gridCol w="947880"/>
                <a:gridCol w="5922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 lookup tables must be in an ascending 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bsolute reference to fill out the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use $A$1:$A$5 Instead of A1:A5 for values that you don’t want its location to change in fill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 value of 0 for rank E, so that any value from 0 to 500 will be 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 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A745-3C2F-4502-B79E-FADD603092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other column rank2 to calculate the same function in slide 5 using 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logical expression, true value, false valu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F(A2&gt;200,”A”,IF(A2&gt;400,”B”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A920-554E-4A70-B083-14F42CA07A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quotes for string, e.g. “A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your brackets bala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commas or don’t add additional com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&gt;= if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5BB2-E358-4DD3-A46F-B816E80170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2T13:25:54Z</dcterms:modified>
  <cp:revision>121</cp:revision>
  <dc:subject/>
  <dc:title>CPSC 203</dc:title>
</cp:coreProperties>
</file>